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1AC-D357-4E09-8076-13B24484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EA1-E1F9-4A4A-89A1-CB6BD7A7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1508-A5AE-4535-B039-CB631E41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6EB-893A-4B68-B165-FBC77695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669-E88A-4C2F-B1E2-0D18A699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B16-DCE3-493F-B63B-042FBD37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C71-6A90-4B56-B845-3F087359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966-AE2D-4AED-B92C-40A5052C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065-A28C-4F27-AEF7-1B3DF969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B84-49BC-413A-AFBE-6B58CB91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6B2-98D4-4DF4-9F23-E98749C1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A8B-C141-426A-A025-184AC187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786F-C9F8-4CE5-97E7-FE556F69FA5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ETODA BACKTRACK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-a,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Livia Ţoca, Andreea-Ruxanda Demco, Cristian Opincaru, Adrian Sind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ulte ori, în aplicaţii apar probleme în care se cere găsirea unor soluţii de forma x=x1x2…xn, unde xi</a:t>
            </a:r>
            <a:r>
              <a:rPr b="0" lang="ro-RO" sz="1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i, i=1,…,n, în care x1...xn trebuie să îndeplinească anumite condiţii. Am putea să generăm toate combinaţiile posibile de valori şi apoi să le alegem doar pe cele convenab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derând mulţimile Ai={ai,1, ai,2,…,ai,n(i)}, aceste combinaţii s-ar putea construi astfel: pentru fiecare valoare posibilă fixată pentru componenta xi, vom alege toate valorile posibi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1 şi pentru fiecare astfel de valoare fixată pentru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vom alege toate valorile posibile pentru componenta x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zolvând problema în acest mod, deci generând toate elementele produsului cartezian A1xA2x..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 şi verificând abia apoi dacă fiecare combinaţie este o soluţie, eficienţa este scăzut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tfel, dacă de exemplu ne propunem să generăm toate cuvintele formate cu literele a, b, c, aşa încât fiecare literă să apară o singură dată, combinaţiile posibile sunt în număr de 27, dintre care convin doar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ica Backtracking propune generarea soluţiei prin completarea vectorului x în ordinea x1x2...xn şi are la bază un principiu „de bun simţ”: dacă se constată că având o combinaţie parţială de forma v1v2...vk-1 (unde v1, ..., vk-1 sunt valori deja fixate), dacă alegem pentru xk o valoare vk şi combinaţia rezultată nu ne permite să ajungem la o soluţie, se renunţă la această valoare şi se încearcă o alta (dintre cele netestate în această etapă). Într-adevăr, oricum am alege celelalte valori, dacă una nu corespunde nu putem avea o soluţi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erciţii şi proble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pentru nivelul k oarecare al vectorului soluţie am verificat toate valorile posibi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goritmul se înche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pe nivelul anteri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pe nivelul urmă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s-a găsit o valoare convenabilă pentru componenta k, următorul pas es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trece la componenta următoare,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(dacă nu s-a ajuns la soluţ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ămâne la componenta k, căutând în continuare o altă valoare convenabil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revine la componenta k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diţii se revine la componenta anterioar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ce am găsit o valoare convenabilă pentru componenta 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valoarea testată pentru componenta k nu convin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că am testat toate valorile posibile pentru component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3:41:32Z</dcterms:modified>
  <cp:revision>31</cp:revision>
  <dc:subject/>
  <dc:title>SALARIUL</dc:title>
</cp:coreProperties>
</file>